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i.di.unipi.it/~NOME_UTENTE" TargetMode="External"/><Relationship Id="rId2" Type="http://schemas.openxmlformats.org/officeDocument/2006/relationships/hyperlink" Target="http://www.cli.di.unipi.it/~NOME_UTENTE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800" y="24411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ffcc99"/>
                </a:solidFill>
                <a:latin typeface="Arial Unicode MS"/>
              </a:rPr>
              <a:t>Esercitazione!</a:t>
            </a:r>
            <a:endParaRPr b="1" lang="en-US" sz="44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6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reare una nuova pagina PHP  che verifichi l’istanziazione di una variabile con la funzione isset(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ificare il funzionamento dello script sia con la variabile non instanziata - dovra’ scrivere il messaggio “variabile non istanziata” che con la variabile istanziata – scrivera’ “variabile istanziata”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5120" y="202680"/>
            <a:ext cx="7920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1.7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047600"/>
            <a:ext cx="79200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siderare la string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$str=“il gatto sul tetto che scotta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pplicare le funzioni di manipolazioni di stringhe  e visualizzare il risultato per ogni pass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isualizzare la sottostringa dalla posizione 4 alle 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stituire “gatto” con “can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stituire “tetto” con “letto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rasformarla in maiusc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-360"/>
            <a:ext cx="79200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1.8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973080"/>
            <a:ext cx="79200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ndendo spunto degli esercizi precedenti realizzare una pagina PHP che scriva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Buongiorno Chiara, benvenuta sulla mia prima pagina PH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e l’ora attuale è anteriore o uguale alle 12, e scr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Buonasera Chiara, benvenuta sulla mia prima pagina PH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quando l’orario attuale è posteriore alle 12. Assegnate alla variabile $nome il vostro nome. Verificare il funzionamento dello scrip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3760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9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odificate la pagina php affinché scriva “buon giorno” quando l’orario attuale è anteriore o uguale alle 12, “buon pomeriggio” quando è posteriore alle 12 ma anteriore alle 18 e “buonasera” altriment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ggiungere l’indicazione di data e ora attuali (ad esempio “Buongiorno Chiara, oggi è il 20 Aprile 2009 e sono le ore …..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3788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10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ambiare il colore dello sfondo della pagina in base al giorno della settimana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3788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1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tampare una tabella HTML con intestazione “tabellina del 5” che contenga appunto la tabellina del 5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tampare tutti i numeri da 1 a 20 in una tabella, in modo tale che il colore di sfondo della cella cambi a seconda che il numero sia pari o dispari (ad esempio rosso quando il numero e’ pari e grigio quando e’ dispari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792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sare il server web in Aula H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336320"/>
            <a:ext cx="7920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ei laboratori di Polo Fibonacci è attivo il web server Apache. E’ una configurazione centralizzata per cui accediamo ad uno spazio web personale di una installazione di apache che risiede su un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a windows lo spazio web personale si può accedere d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Z:\public_ht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e la cartella </a:t>
            </a:r>
            <a:r>
              <a:rPr b="1" lang="it-I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_html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non esiste già, crearla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ttenzione: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pache differenza minuscole e maiuscole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tilizzare lo spazio web in Aula H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documenti vengono poi visualizzati alla URL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www.cli.di.unipi.it/~</a:t>
            </a:r>
            <a:r>
              <a:rPr b="1" lang="it-IT" sz="22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NOME_UTE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  <a:ea typeface="Arial"/>
              </a:rPr>
              <a:t>Dove </a:t>
            </a:r>
            <a:r>
              <a:rPr b="1" i="1" lang="en-US" sz="2200" spc="-1" strike="noStrike">
                <a:solidFill>
                  <a:srgbClr val="3399ff"/>
                </a:solidFill>
                <a:latin typeface="Courier New"/>
                <a:ea typeface="Courier New"/>
              </a:rPr>
              <a:t>NOME_UTENTE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  <a:ea typeface="Arial"/>
              </a:rPr>
              <a:t> è il vostro login in aula H !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reare un documento chiamato </a:t>
            </a:r>
            <a:r>
              <a:rPr b="1" lang="it-IT" sz="2200" spc="-1" strike="noStrike">
                <a:solidFill>
                  <a:srgbClr val="ffffff"/>
                </a:solidFill>
                <a:latin typeface="Courier New"/>
              </a:rPr>
              <a:t>index.html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(il documento di default) vuoto o con un messaggio fisso standard, servirà per “oscurare” i documenti degli esercizi che farem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1.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468080"/>
            <a:ext cx="79200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gitare su blocco note (o altro editor di testo, ad esempio HTMLKit) il contenuto di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iapagina.php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riportato di seguito, salvarlo e visualizzarlo dal browser web digitando la URL del server con il vostro nome utente e indicando la pagina miapagina.p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rificare che venga visualizzata la data di ogg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odificare il file miapagina.php per aggiungere una migliore formattazione HTML della pagina ( ad es con il titolo “La mia Prima pagina PHP”) e formattando i caratteri della data in bold e centrati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90000"/>
              </a:lnSpc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odificare la visualizzazione della data per visualizzare solo mese e ann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7960" y="471240"/>
            <a:ext cx="792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iapagina.php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6520" y="1252440"/>
            <a:ext cx="8610480" cy="5172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&lt;HTML&gt; &lt;HEAD&gt; &lt;TITLE&gt;La mia prima pagina  PHP  &lt;/TITLE&gt; &lt;/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data di oggi con la funzione date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&lt;?p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$dataoggi=date(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“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j/M/Y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  <a:ea typeface="Arial"/>
              </a:rPr>
              <a:t>”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echo $dataogg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&lt;/BODY&gt; &lt;/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1.2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99680"/>
            <a:ext cx="79200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odificare l’esercizio precedente per visualizzare la data di oggi come di segui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ata di oggi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/04/0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-04-200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-Apr-200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-April-200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-Apr-0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-April-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e minuti secondi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46-58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1.3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iportare questo frammento di script in una pagina HTML sostituendo a “chiara” il vostro nome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&lt;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$nome=“chiara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echo “buongiorno $nome”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Arial"/>
              </a:rPr>
              <a:t>?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odificare lo script per aggiungere la data e l’ora attuali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4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628640"/>
            <a:ext cx="89154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reare una nuova pagina PHP come segu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HTML&gt; &lt;HEAD&gt; &lt;TITLE&gt;Esercizio 1.4 &lt;/TITLE&gt; &lt;/HEAD&gt; &lt;BODY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ariabile non e’ istanzi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&lt;?php e</a:t>
            </a:r>
            <a:r>
              <a:rPr b="1" lang="it-IT" sz="2400" spc="-1" strike="noStrike">
                <a:solidFill>
                  <a:srgbClr val="ffff99"/>
                </a:solidFill>
                <a:latin typeface="Arial"/>
                <a:ea typeface="Arial"/>
              </a:rPr>
              <a:t>cho $miavar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$miavar=“ciao!”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ffff99"/>
                </a:solidFill>
                <a:latin typeface="Arial"/>
                <a:ea typeface="Arial"/>
              </a:rPr>
              <a:t>cho “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La variabile ora e‘ istanziata </a:t>
            </a:r>
            <a:r>
              <a:rPr b="1" lang="it-IT" sz="2400" spc="-1" strike="noStrike">
                <a:solidFill>
                  <a:srgbClr val="ffff99"/>
                </a:solidFill>
                <a:latin typeface="Arial"/>
                <a:ea typeface="Arial"/>
              </a:rPr>
              <a:t>$miavar”; 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?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/BODY&gt; &lt;/HTML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1.5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reare una nuova pagina PHP come segu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HTML&gt; &lt;HEAD&gt; &lt;TITLE&gt;Esercizio 1.4 &lt;/TITLE&gt; &lt;/HEAD&gt; &lt;BODY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ariabile sara’ istanziata o no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&lt;?php e</a:t>
            </a:r>
            <a:r>
              <a:rPr b="1" lang="it-IT" sz="2400" spc="-1" strike="noStrike">
                <a:solidFill>
                  <a:srgbClr val="ffff99"/>
                </a:solidFill>
                <a:latin typeface="Arial"/>
                <a:ea typeface="Arial"/>
              </a:rPr>
              <a:t>cho $miavar; 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?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lt;/BODY&gt; &lt;/HTML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lnSpc>
                <a:spcPct val="70000"/>
              </a:lnSpc>
              <a:spcBef>
                <a:spcPts val="18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 verificare se la variabile $miavar risulta instanziata o me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45:42Z</dcterms:created>
  <dc:creator/>
  <dc:description/>
  <dc:language>en-US</dc:language>
  <cp:lastModifiedBy>Chiara Renso</cp:lastModifiedBy>
  <cp:lastPrinted>2010-04-20T15:57:03Z</cp:lastPrinted>
  <dcterms:modified xsi:type="dcterms:W3CDTF">2010-04-22T12:59:41Z</dcterms:modified>
  <cp:revision>122</cp:revision>
  <dc:subject/>
  <dc:title>Laboratorio di Progettazione Web</dc:title>
</cp:coreProperties>
</file>